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7A7A-0521-4A03-8A76-142FCCA518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88C5-A073-4968-AD9E-80177F4C4A2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225F-BCDA-4586-9D6C-45DB6EBC03E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65CB-D95E-4C05-B295-C50772E51CF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3512-8E82-43F6-A176-833D9F1AEF1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DD1D-216C-49DA-ACDD-A190115EB32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39CC-697A-4968-A84C-E8C0B6FCC7A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B23B-CE68-4DF4-AAEC-BDC05E8F48A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074C-28CE-4801-81D3-B85D920C120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52AD-02D2-4291-AD89-55AAC084A4C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E349-577B-4A90-9C28-88F8F3E15DD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F54D-70A9-43F6-9750-62CEBAB56E3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AC9F-A869-4D07-A014-3C8E4BCF511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;  ; ce qui consomme une ressource rare dans un dispositif dont la mission principale n’est pas la médecine d'urgence (rôle dévolu au S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 qui consomme une ressource rare dans des dispositifs dont la mission principale n’est pas la médecine d'urgence (rôle dévolu au services des urgences publics et privés autorisés par l’ARS) ; ce qui, en outre, n’est pas sans ris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6CEA-FEA3-429A-B408-4110062671A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0940-3008-4CF1-84D4-3F7DB5EF44B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A214-989E-46CB-85DC-159DBBC87B8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F9D7-C9BE-4670-BDB2-B463978B04A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E4C2-DE12-4A7D-BEB1-BB39F4C7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D227-3327-446F-955F-D9EE40A3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39E373-51D3-4CDD-8918-0AB1BB0C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4E1606-CDE3-4BBF-8F96-A5756FAE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44A1FC-27E9-48FD-9331-A6CEF3CD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C596B9-913F-42D0-8D47-A0B29F1B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180985-7866-429F-BAA2-3A192785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4B98F4-44F4-48DB-A2FA-C27CE700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EA2DF4-3652-4D92-BDD5-DB9B2085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45583A-7ED5-46EB-9EAB-3DC9E5E4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55E621-55CB-4C8D-8C95-C9FBE0F7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69EA82-5693-4CD2-98D8-8CCB3AC3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96DF-075B-4BA7-83FB-57EE713A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C171BB-C024-40BB-B010-E58BDBF2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E05AA5-4C13-477E-8560-665038DF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94BE28-8378-49C0-8DD2-D68F5893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4B2370-4AED-4F47-BBAB-F10EDA3F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B5D984-87A9-43FA-85DF-9F0A2E1A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BD916B-C48A-4AFC-858A-91389BF0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B26B08-A95C-4FAA-A6AB-1F0F0FDE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FB6525-615D-4765-9D7F-1DD38941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595691-F75C-4D53-B9CF-467EF96D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8B49AE-27EF-4D93-9612-23FEC020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1210-DDCA-46B7-B891-8E1D4F11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CAE43E-F02E-4ED6-A436-E4BABFBB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D9AEA-B33B-4990-B8D1-C1421550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1855A-0953-4A6E-AA26-1E3509EE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36ED2-B20C-4E1C-A920-018FBC8B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D5FBE-0B92-4CBF-BC60-250DEA28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52A76-03BB-4F6B-AE91-B819661B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0A5B2-0910-4F05-8B76-D5833D5D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3012E-F59E-4033-82C7-BD4A808C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8994F-E9D5-46B7-BD14-D4647881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2B60B-C70C-4D46-9E9A-D06D85F6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77E76-2D27-4BED-AECF-6FD8768D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407DD-0B41-4025-AFC9-14627D1E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8B20E-EF65-4EA1-8F4F-8F40EB2D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CC19D-0C57-4072-8C27-D443C000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85D51-C133-48EE-9951-5FF1E678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0904E-9181-4A53-9180-FDFC7FF5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B1573-A590-45A7-9D9C-F1B7F940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3F929-B45D-4ADF-A5F2-56FAC540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B790A-61BD-4AF7-BC98-DECDB9EA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D1323-8E39-4820-AB1C-2D297CCA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40640-C941-4908-A7C8-97780E71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9936C-C40C-47D3-B20E-6FFCBF6D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FB867-E1C5-4775-9E85-C7542F3F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025E0-F524-4C9B-AB70-38B0EDD9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AC7B3-6C9D-445B-9A4B-02B2A2F8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56417-623D-44FE-9EE1-343B3E3A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1963F-8CDC-4939-BE20-566731CA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B8069-862D-4C97-A3F7-35902B87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1D900-1C69-4EE1-AC31-BF5EF18B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A3DDC-C090-4FA6-A239-5EF43AB8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60588-146C-4F16-ABA1-7E3718F2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389A1-1081-44D1-A245-38E25236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E6ED-27E8-4016-9B52-C9841577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091B0-CA60-456D-90E8-E9193DA2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E8097-CD76-4F71-B0C4-D58188C6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DC4B2-B3D1-46A5-B342-89FE7BB5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7BC9A-F46A-4C72-98F2-1C78C96B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810CC-E7D0-4A20-9418-94ABA356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00907-2EF4-4BE8-8724-356F9D51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C2EF8-056E-459D-B983-3B67C461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BB0AA-1662-48F4-A8D4-2EC846DD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6E8D3-EF62-4353-9515-1FAB19F9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269C1-6A90-49DB-B432-EC4D5D48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C6C3-AADB-4A01-B4BC-A0AD21DA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855DE-C8C2-4C87-9239-45B24510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9789F-CDB9-419E-865D-6BDFF1FD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0FB21-C6DF-4601-956F-E967FC3D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8FF80-1D45-4AD7-A574-F795E016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F8CB4-C2B3-4BD4-9065-318BB89C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4BC97-4D67-4CE8-B201-6FA06EC5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12A2C-B190-4138-8552-A7DEDC70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CE0A0A-68BB-4C40-A59D-CFD5349F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940C78-97F9-4972-9114-A6211E0C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E09D3E-C7DE-46C6-A9E5-8F36D552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9593-F30D-4CF1-9668-C5571A0C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B1226D-B8BC-4538-8281-95B69F97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48FBF7-02DD-4A3B-9A47-E78A9406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01B4D2-5506-47BB-9C8A-480455DE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94ED72-59B5-4F89-822F-F7936D66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9E776F-33D0-4B9E-8573-67D843B2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56A804-6F11-49D5-BFBA-7EED0D8F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7729BA-8F0B-43D9-BBC0-FEB7D18D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1121D0-117B-4569-96A9-786B41D4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E234AF-4B1B-4A98-8D0C-3063A837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C80F8-B75B-4A3B-9EDB-A9FC0A25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256C-8408-439E-AB7B-426197A8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734E6-03E8-4E82-A609-958D0111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1FFC7-1601-46D1-B9F5-B6C8DF0E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3AFAB-AEB6-4788-90CF-20B0AE1E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C7761-F1F5-419F-A823-99B6C5BF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0010D-6008-4B80-840C-1A3E3984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0665E-76D8-4D10-A165-0CC6F61F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2737A-BB66-421A-BBD9-EF09D25E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FFAF5-54CF-44C4-952C-14467196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DC6E1-564C-4790-A615-1F243996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0ABF5-593B-4ACD-8586-06694847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42B-397A-41E9-976C-112161F4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0B56F-436E-411C-BAE9-2E95275D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81C3D-128A-49AD-BC2E-46D95DFE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59E70-9AD9-4FDB-BA43-74AC8D17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0B02D-D2F2-4DE2-9F85-7EE72E3C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F07EB-DF1F-41E0-8246-BE2F3AFA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90F80-F72E-4F87-9010-AFB18D5D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AFA2D-9B41-4502-AC20-21EC04BF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4089A-002C-4BF6-951E-28D9381B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92ABF-39BE-4BE2-BFCD-6E1A285B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0238B-9E94-4700-9650-4A172356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575-CD91-46B8-9589-89D00DCA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393CA-233B-49E2-A94A-5466E45F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55C1E-A33F-4BDE-B74F-E1D465AB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C16DF-1320-41EF-868D-3F715292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983A5-11C0-490F-856A-18598D8E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2D14C-DFF5-4697-BCAD-B185549C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FA657-E6C3-4559-89EE-C81A5BE0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9499C-6C5C-49C2-BCBE-ED0D1298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87F4E-E139-48D3-824A-91594B77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230F5-6A9E-4862-8A98-6FD68A8A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F4A62-16B6-4C72-890B-ACA543C7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A607-1573-4FCE-845E-77AB44B0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50D03-D91E-48FE-A361-0BD60FE4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912D6-EA47-4428-B2E0-D0A31814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E3CD0-8FEB-4485-BD5E-21D801BB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A7B8E-A157-42DB-851E-49DECDE2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B57D2-6766-49E9-9BF3-E7DA9FD5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5B451-405F-49C8-A622-B2402BD7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178F4-6242-429A-9551-2E4D27C6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1656F-D746-42E2-BBA2-80D5FAC7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B1BC3-449D-4EBA-8967-DB435700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A1351-4020-480F-B954-8C3304DE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7F5-471B-4DED-BC57-BD724EF6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E6BE6-6F02-4AF8-87F1-9772B146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16DA3-78F4-4640-8DD7-8ED2BE63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D5955-CA6D-4518-B510-BC671609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CCB84-5B81-471B-A7A4-3275556A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BC44F-FE3D-4BDE-80D6-1499F845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ED85A-209E-420F-AEDB-87A123C1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C4D26-9296-42B1-B943-89431316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55A478-B7C7-447F-BDC0-C4A1D759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DD644E-BD01-40EB-BE7D-5BF6415A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112060-D215-42ED-9CF5-4C0248E6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52BF-854F-4EF3-B4C0-C9790C9B89F1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FA64-CBDF-4A5D-80A6-9CFF40EC4F8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E5DF-39DC-4969-AD94-36A533DF5612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296F-CCEC-4438-9E6D-A6C2701E2CF1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rrondir un rectangle avec un coin diagonal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5186-29C4-4353-BD14-623263816EB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0BE9-0C46-44D6-8536-1F55385D634B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F9C8-D86C-41E0-9DA6-39B3F9F7799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7477-2DBB-4595-9FF3-DBB23AEC0477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2364-0D3D-4711-8751-156FE17944F0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B8EC-2202-41A0-84DB-E0827C559DE2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2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A89A-EC12-4C04-918B-E875AAEA1BD3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59B7-3D60-4728-A8A1-2E38746170F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583480" cy="24019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Marc GIRO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conférence territoriale du 95 , le 28 février 201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aisons de santé pluridisciplinair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ordonn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généralistes non regroup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dc097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DAEB-ACCC-4666-9605-8850FE1D9323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’usage d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M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filièr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(ex : A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artenari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EHPAD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, 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HAD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DDAA-F154-4C80-987A-0A058A4333CF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pérations hospitaliè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consultations avancé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équipe d’urgentistes de territoi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7889-29D4-4DC8-B76E-D587FC728B81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ompagnement social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ur les cas où les problèmes médicaux semblent conditionnés par la situation sociale (solitude, vulnérabilité…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D19B-94DA-468D-8BAE-5CD152B1466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Bon usage des ressourc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(dialogue / médecin régulateu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ouleur thoracique, AVC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027E-E158-45E2-AA28-B6DD2C4AA44C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ecteur Est (Gones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mur pédiatri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édecins correspondants de Sam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EF5F-03BC-4806-AC4E-44B803E6B69B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ravail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ingénie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quotidiennes liées à la circu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liées à la charge de travail des équi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Saisonnalit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gistr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cas graves pris en charge en plus de 30m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FE8C-561F-4DD8-A8AB-8795BC3CDFEA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erritoir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bain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o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ux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as certain que le déficit soit plus important en zone rur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ituation du Vexin franç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e territoire est, certes,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ficitai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mais il est bie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eintur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d’établissements de santé (pas tous dans le 95) : Pontoise, Osny, L’Isle-Adam, Beaumont, Méru, Gisors, Vernon, Mantes, Meulan, Evecquemo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exi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ériurbai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et Vexin authentiquem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EC70-D1C4-4E0C-96A3-6972C209E554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DSA = (pour l’essentiel) SOS Médec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en PDSA =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lai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souvent dissuasif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’efficacité de la PDSA serait multipliée si les interventions de SOS Médecins étai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rdonnée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e Centre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FF7E-1BF2-4396-ACD5-ACB4068E4A14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cours au 15 inappropri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abinets médicaux :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 non coordonn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ériodes critiq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épondeur : renvoi au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recours au 15 po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etour d’exam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ontinuité du trai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passages aux urg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B67D-1AEB-4880-812F-88320E515895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455400" cy="11588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a régulation médicale = out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 progrès médical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égalité soci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optimisation de l’emploi des ressources</a:t>
            </a:r>
            <a:br>
              <a:rPr sz="2400"/>
            </a:b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généralistes libéraux participent à la régulation médic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puis dix ans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’est u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uccè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mplémentarit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généralistes + urgent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lle pourrait être plus employé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ès à la PDSA insuffisamment régul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EE81-6F81-4953-8DEB-E7526C305CD3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consultations non programmées se développent dans des établissements privés avec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s pompiers disposent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temps-ple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upture du principe de complémentarité Samu-Sd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n’est pas sans ris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consomme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ssource rare des 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ans des dispositifs dont ce n’est pa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issio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rincip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a médecine d'urgence est le rôle dévolu aux services d’urgence publics et privé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utorisé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’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F07B-4724-4BA3-96F2-D6FA8B3A3F9B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18600" cy="541152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ncourager les généralistes à anticip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’urgence attendues ou prévisibles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mieux informer les patients de ce qui peut leur arrive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rédiger pour les malades chroniques des fiches de liai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e fin de v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F55B-C292-45B8-BFA7-0DB3D452D9A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égulation médical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u Centre 15 et notamment la participation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général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ller plus loin dan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rescription téléphoniqu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ar le Centre 15 (selon recommandations HA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9109-88CF-4C84-AD4C-9F31416FB335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10:44Z</dcterms:created>
  <dc:creator>Marc GIROUD</dc:creator>
  <dc:description/>
  <dc:language>en-US</dc:language>
  <cp:lastModifiedBy>CHRD</cp:lastModifiedBy>
  <dcterms:modified xsi:type="dcterms:W3CDTF">2013-02-28T11:09:46Z</dcterms:modified>
  <cp:revision>1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